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media/image51.wmf" ContentType="image/x-wmf"/>
  <Override PartName="/ppt/media/image50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drumroll.wav" ContentType="audio/x-wav"/>
  <Override PartName="/ppt/media/EXPLODE.WAV" ContentType="audio/x-wav"/>
  <Override PartName="/ppt/media/image33.wmf" ContentType="image/x-wmf"/>
  <Override PartName="/ppt/media/image37.wmf" ContentType="image/x-wmf"/>
  <Override PartName="/ppt/media/image32.wmf" ContentType="image/x-wmf"/>
  <Override PartName="/ppt/media/image38.wmf" ContentType="image/x-wmf"/>
  <Override PartName="/ppt/media/image8.wmf" ContentType="image/x-wmf"/>
  <Override PartName="/ppt/media/image39.wmf" ContentType="image/x-wmf"/>
  <Override PartName="/ppt/media/image9.wmf" ContentType="image/x-wmf"/>
  <Override PartName="/ppt/media/image34.wmf" ContentType="image/x-wmf"/>
  <Override PartName="/ppt/media/image10.wmf" ContentType="image/x-wmf"/>
  <Override PartName="/ppt/media/image47.wmf" ContentType="image/x-wmf"/>
  <Override PartName="/ppt/media/image13.wmf" ContentType="image/x-wmf"/>
  <Override PartName="/ppt/media/image1.wmf" ContentType="image/x-wmf"/>
  <Override PartName="/ppt/media/image31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7.wmf" ContentType="image/x-wmf"/>
  <Override PartName="/ppt/media/image1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.wmf" ContentType="image/x-wmf"/>
  <Override PartName="/ppt/media/image15.wmf" ContentType="image/x-wmf"/>
  <Override PartName="/ppt/media/image20.wmf" ContentType="image/x-wmf"/>
  <Override PartName="/ppt/media/driveby.wav" ContentType="audio/x-wav"/>
  <Override PartName="/ppt/media/image52.wmf" ContentType="image/x-wmf"/>
  <Override PartName="/ppt/media/image12.wmf" ContentType="image/x-wmf"/>
  <Override PartName="/ppt/media/CAMERA.WAV" ContentType="audio/x-wav"/>
  <Override PartName="/ppt/media/image45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image17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image49.wmf" ContentType="image/x-wmf"/>
  <Override PartName="/ppt/media/CHIMES.WAV" ContentType="audio/x-wav"/>
  <Override PartName="/ppt/media/image28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gunshot.wav" ContentType="audio/x-wav"/>
  <Override PartName="/ppt/media/image25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3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DA3-4EC4-4A9C-BAE1-986AE183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134-1BA9-4E98-8848-FAFF4CE3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EE3-8D26-4751-BA81-05BEDA08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1B8-B9C7-466D-B321-CF6FD63C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8C0-5BA5-49CF-AAF6-1E70050D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AA3-10AB-4BDE-88BF-0838EDB9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675-BC90-4B73-9A14-6E9C1BB4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087-759E-41DF-891B-160C67ED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9E4-A085-4EA4-B796-63D990FC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229-7E1D-4032-81F3-72DB2EF6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86C-81AB-44F9-90D0-BFBDC3B7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146-4040-4C78-A658-71C71157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519E-BB58-48C6-9073-250404089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audio" Target="../media/WHOOSH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AMERA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EXPLODE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EXPLODE.WAV"/><Relationship Id="rId23" Type="http://schemas.openxmlformats.org/officeDocument/2006/relationships/audio" Target="../media/driveby.wav"/><Relationship Id="rId24" Type="http://schemas.openxmlformats.org/officeDocument/2006/relationships/audio" Target="../media/LASER.WAV"/><Relationship Id="rId25" Type="http://schemas.openxmlformats.org/officeDocument/2006/relationships/audio" Target="../media/driveby.wav"/><Relationship Id="rId26" Type="http://schemas.openxmlformats.org/officeDocument/2006/relationships/audio" Target="../media/LASER.WAV"/><Relationship Id="rId27" Type="http://schemas.openxmlformats.org/officeDocument/2006/relationships/audio" Target="../media/EXPLODE.WAV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driveby.wav"/><Relationship Id="rId14" Type="http://schemas.openxmlformats.org/officeDocument/2006/relationships/audio" Target="../media/LASER.WAV"/><Relationship Id="rId15" Type="http://schemas.openxmlformats.org/officeDocument/2006/relationships/audio" Target="../media/EXPLODE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driveby.wav"/><Relationship Id="rId14" Type="http://schemas.openxmlformats.org/officeDocument/2006/relationships/audio" Target="../media/LASER.WAV"/><Relationship Id="rId15" Type="http://schemas.openxmlformats.org/officeDocument/2006/relationships/audio" Target="../media/EXPLODE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driveby.wav"/><Relationship Id="rId14" Type="http://schemas.openxmlformats.org/officeDocument/2006/relationships/audio" Target="../media/LASER.WAV"/><Relationship Id="rId15" Type="http://schemas.openxmlformats.org/officeDocument/2006/relationships/audio" Target="../media/EXPLODE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1.wmf"/><Relationship Id="rId41" Type="http://schemas.openxmlformats.org/officeDocument/2006/relationships/audio" Target="../media/CHIMES.WAV"/><Relationship Id="rId42" Type="http://schemas.openxmlformats.org/officeDocument/2006/relationships/audio" Target="../media/CAMERA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driveby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drumroll.wav"/><Relationship Id="rId49" Type="http://schemas.openxmlformats.org/officeDocument/2006/relationships/audio" Target="../media/LASER.WAV"/><Relationship Id="rId50" Type="http://schemas.openxmlformats.org/officeDocument/2006/relationships/audio" Target="../media/LASER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LASER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LASER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audio" Target="../media/LASER.WAV"/><Relationship Id="rId61" Type="http://schemas.openxmlformats.org/officeDocument/2006/relationships/audio" Target="../media/LASER.WAV"/><Relationship Id="rId62" Type="http://schemas.openxmlformats.org/officeDocument/2006/relationships/audio" Target="../media/LASER.WAV"/><Relationship Id="rId63" Type="http://schemas.openxmlformats.org/officeDocument/2006/relationships/audio" Target="../media/LASER.WAV"/><Relationship Id="rId64" Type="http://schemas.openxmlformats.org/officeDocument/2006/relationships/audio" Target="../media/LASER.WAV"/><Relationship Id="rId65" Type="http://schemas.openxmlformats.org/officeDocument/2006/relationships/audio" Target="../media/LASER.WAV"/><Relationship Id="rId66" Type="http://schemas.openxmlformats.org/officeDocument/2006/relationships/audio" Target="../media/LASER.WAV"/><Relationship Id="rId67" Type="http://schemas.openxmlformats.org/officeDocument/2006/relationships/audio" Target="../media/LASER.WAV"/><Relationship Id="rId6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4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4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5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46.wmf"/><Relationship Id="rId51" Type="http://schemas.openxmlformats.org/officeDocument/2006/relationships/audio" Target="../media/CAMERA.WAV"/><Relationship Id="rId52" Type="http://schemas.openxmlformats.org/officeDocument/2006/relationships/audio" Target="../media/LASER.WAV"/><Relationship Id="rId53" Type="http://schemas.openxmlformats.org/officeDocument/2006/relationships/audio" Target="../media/LASER.WAV"/><Relationship Id="rId54" Type="http://schemas.openxmlformats.org/officeDocument/2006/relationships/audio" Target="../media/driveby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EXPLODE.WAV"/><Relationship Id="rId58" Type="http://schemas.openxmlformats.org/officeDocument/2006/relationships/audio" Target="../media/driveby.wav"/><Relationship Id="rId59" Type="http://schemas.openxmlformats.org/officeDocument/2006/relationships/audio" Target="../media/LASER.WAV"/><Relationship Id="rId60" Type="http://schemas.openxmlformats.org/officeDocument/2006/relationships/audio" Target="../media/driveby.wav"/><Relationship Id="rId61" Type="http://schemas.openxmlformats.org/officeDocument/2006/relationships/audio" Target="../media/LASER.WAV"/><Relationship Id="rId62" Type="http://schemas.openxmlformats.org/officeDocument/2006/relationships/audio" Target="../media/driveby.wav"/><Relationship Id="rId63" Type="http://schemas.openxmlformats.org/officeDocument/2006/relationships/audio" Target="../media/LASER.WAV"/><Relationship Id="rId64" Type="http://schemas.openxmlformats.org/officeDocument/2006/relationships/audio" Target="../media/EXPLODE.WAV"/><Relationship Id="rId65" Type="http://schemas.openxmlformats.org/officeDocument/2006/relationships/audio" Target="../media/drumroll.wav"/><Relationship Id="rId66" Type="http://schemas.openxmlformats.org/officeDocument/2006/relationships/audio" Target="../media/LASER.WAV"/><Relationship Id="rId67" Type="http://schemas.openxmlformats.org/officeDocument/2006/relationships/audio" Target="../media/LASER.WAV"/><Relationship Id="rId68" Type="http://schemas.openxmlformats.org/officeDocument/2006/relationships/audio" Target="../media/LASER.WAV"/><Relationship Id="rId69" Type="http://schemas.openxmlformats.org/officeDocument/2006/relationships/audio" Target="../media/LASER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LASER.WAV"/><Relationship Id="rId73" Type="http://schemas.openxmlformats.org/officeDocument/2006/relationships/audio" Target="../media/LASER.WAV"/><Relationship Id="rId74" Type="http://schemas.openxmlformats.org/officeDocument/2006/relationships/audio" Target="../media/LASER.WAV"/><Relationship Id="rId75" Type="http://schemas.openxmlformats.org/officeDocument/2006/relationships/audio" Target="../media/LASER.WAV"/><Relationship Id="rId76" Type="http://schemas.openxmlformats.org/officeDocument/2006/relationships/audio" Target="../media/LASER.WAV"/><Relationship Id="rId77" Type="http://schemas.openxmlformats.org/officeDocument/2006/relationships/audio" Target="../media/LASER.WAV"/><Relationship Id="rId78" Type="http://schemas.openxmlformats.org/officeDocument/2006/relationships/audio" Target="../media/LASER.WAV"/><Relationship Id="rId79" Type="http://schemas.openxmlformats.org/officeDocument/2006/relationships/audio" Target="../media/LASER.WAV"/><Relationship Id="rId80" Type="http://schemas.openxmlformats.org/officeDocument/2006/relationships/audio" Target="../media/LASER.WAV"/><Relationship Id="rId81" Type="http://schemas.openxmlformats.org/officeDocument/2006/relationships/audio" Target="../media/LASER.WAV"/><Relationship Id="rId82" Type="http://schemas.openxmlformats.org/officeDocument/2006/relationships/audio" Target="../media/LASER.WAV"/><Relationship Id="rId83" Type="http://schemas.openxmlformats.org/officeDocument/2006/relationships/audio" Target="../media/LASER.WAV"/><Relationship Id="rId84" Type="http://schemas.openxmlformats.org/officeDocument/2006/relationships/audio" Target="../media/LASER.WAV"/><Relationship Id="rId8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4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60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3.wmf"/><Relationship Id="rId51" Type="http://schemas.openxmlformats.org/officeDocument/2006/relationships/audio" Target="../media/CAMERA.WAV"/><Relationship Id="rId52" Type="http://schemas.openxmlformats.org/officeDocument/2006/relationships/audio" Target="../media/LASER.WAV"/><Relationship Id="rId53" Type="http://schemas.openxmlformats.org/officeDocument/2006/relationships/audio" Target="../media/LASER.WAV"/><Relationship Id="rId54" Type="http://schemas.openxmlformats.org/officeDocument/2006/relationships/audio" Target="../media/driveby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EXPLODE.WAV"/><Relationship Id="rId58" Type="http://schemas.openxmlformats.org/officeDocument/2006/relationships/audio" Target="../media/driveby.wav"/><Relationship Id="rId59" Type="http://schemas.openxmlformats.org/officeDocument/2006/relationships/audio" Target="../media/LASER.WAV"/><Relationship Id="rId60" Type="http://schemas.openxmlformats.org/officeDocument/2006/relationships/audio" Target="../media/driveby.wav"/><Relationship Id="rId61" Type="http://schemas.openxmlformats.org/officeDocument/2006/relationships/audio" Target="../media/LASER.WAV"/><Relationship Id="rId62" Type="http://schemas.openxmlformats.org/officeDocument/2006/relationships/audio" Target="../media/driveby.wav"/><Relationship Id="rId63" Type="http://schemas.openxmlformats.org/officeDocument/2006/relationships/audio" Target="../media/LASER.WAV"/><Relationship Id="rId64" Type="http://schemas.openxmlformats.org/officeDocument/2006/relationships/audio" Target="../media/EXPLODE.WAV"/><Relationship Id="rId65" Type="http://schemas.openxmlformats.org/officeDocument/2006/relationships/audio" Target="../media/drumroll.wav"/><Relationship Id="rId66" Type="http://schemas.openxmlformats.org/officeDocument/2006/relationships/audio" Target="../media/LASER.WAV"/><Relationship Id="rId67" Type="http://schemas.openxmlformats.org/officeDocument/2006/relationships/audio" Target="../media/LASER.WAV"/><Relationship Id="rId68" Type="http://schemas.openxmlformats.org/officeDocument/2006/relationships/audio" Target="../media/LASER.WAV"/><Relationship Id="rId69" Type="http://schemas.openxmlformats.org/officeDocument/2006/relationships/audio" Target="../media/LASER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LASER.WAV"/><Relationship Id="rId73" Type="http://schemas.openxmlformats.org/officeDocument/2006/relationships/audio" Target="../media/LASER.WAV"/><Relationship Id="rId74" Type="http://schemas.openxmlformats.org/officeDocument/2006/relationships/audio" Target="../media/LASER.WAV"/><Relationship Id="rId75" Type="http://schemas.openxmlformats.org/officeDocument/2006/relationships/audio" Target="../media/LASER.WAV"/><Relationship Id="rId76" Type="http://schemas.openxmlformats.org/officeDocument/2006/relationships/audio" Target="../media/LASER.WAV"/><Relationship Id="rId77" Type="http://schemas.openxmlformats.org/officeDocument/2006/relationships/audio" Target="../media/LASER.WAV"/><Relationship Id="rId78" Type="http://schemas.openxmlformats.org/officeDocument/2006/relationships/audio" Target="../media/LASER.WAV"/><Relationship Id="rId79" Type="http://schemas.openxmlformats.org/officeDocument/2006/relationships/audio" Target="../media/LASER.WAV"/><Relationship Id="rId80" Type="http://schemas.openxmlformats.org/officeDocument/2006/relationships/audio" Target="../media/LASER.WAV"/><Relationship Id="rId81" Type="http://schemas.openxmlformats.org/officeDocument/2006/relationships/audio" Target="../media/LASER.WAV"/><Relationship Id="rId82" Type="http://schemas.openxmlformats.org/officeDocument/2006/relationships/audio" Target="../media/LASER.WAV"/><Relationship Id="rId83" Type="http://schemas.openxmlformats.org/officeDocument/2006/relationships/audio" Target="../media/LASER.WAV"/><Relationship Id="rId84" Type="http://schemas.openxmlformats.org/officeDocument/2006/relationships/audio" Target="../media/LASER.WAV"/><Relationship Id="rId8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for the indicated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447920"/>
          <a:ext cx="5343480" cy="14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534348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029200" y="3581280"/>
          <a:ext cx="466560" cy="66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581280"/>
                    <a:ext cx="4665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581280" y="3581280"/>
          <a:ext cx="466920" cy="66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581280"/>
                    <a:ext cx="4669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800600" y="358128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58128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410080" y="1752480"/>
                <a:ext cx="9144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2" name=""/>
          <p:cNvGraphicFramePr/>
          <p:nvPr/>
        </p:nvGraphicFramePr>
        <p:xfrm>
          <a:off x="3246480" y="2921040"/>
          <a:ext cx="98100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6480" y="2921040"/>
                    <a:ext cx="981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316400" y="2895480"/>
          <a:ext cx="1290600" cy="67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6400" y="2895480"/>
                    <a:ext cx="12906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200400" y="4114800"/>
          <a:ext cx="2608200" cy="207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0400" y="4114800"/>
                    <a:ext cx="26082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1.  Area of a Tri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352680" y="1790640"/>
                <a:ext cx="8859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4724280" y="236232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943600" y="190512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for the indicated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3360" y="1849320"/>
          <a:ext cx="52020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849320"/>
                    <a:ext cx="52020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00600" y="2514600"/>
          <a:ext cx="88092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514600"/>
                    <a:ext cx="8809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755880" y="2514600"/>
          <a:ext cx="881280" cy="66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5880" y="2514600"/>
                    <a:ext cx="8812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876920" y="2514600"/>
            <a:ext cx="7617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51460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505320" y="3352680"/>
          <a:ext cx="2473200" cy="207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352680"/>
                    <a:ext cx="24732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2.  Circumference of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for the indicated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57280" y="1873080"/>
          <a:ext cx="5295960" cy="6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873080"/>
                    <a:ext cx="529596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903920" y="2565360"/>
          <a:ext cx="6746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3920" y="2565360"/>
                    <a:ext cx="6746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859200" y="2565360"/>
          <a:ext cx="674640" cy="5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9200" y="2565360"/>
                    <a:ext cx="6746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876920" y="2514600"/>
            <a:ext cx="7617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51460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571920" y="3352680"/>
          <a:ext cx="2338200" cy="207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71920" y="3352680"/>
                    <a:ext cx="23382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3.  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for the indicated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4800" y="1873080"/>
          <a:ext cx="5200560" cy="6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873080"/>
                    <a:ext cx="520056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826160" y="2540160"/>
          <a:ext cx="8301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6160" y="254016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81440" y="2540160"/>
          <a:ext cx="8301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1440" y="254016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876920" y="2514600"/>
            <a:ext cx="7617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1460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538440" y="3352680"/>
          <a:ext cx="2405160" cy="207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38440" y="3352680"/>
                    <a:ext cx="240516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4.  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838080" y="3581280"/>
            <a:ext cx="6858000" cy="2971800"/>
            <a:chOff x="838080" y="3581280"/>
            <a:chExt cx="6858000" cy="2971800"/>
          </a:xfrm>
        </p:grpSpPr>
        <p:sp>
          <p:nvSpPr>
            <p:cNvPr id="102" name=""/>
            <p:cNvSpPr/>
            <p:nvPr/>
          </p:nvSpPr>
          <p:spPr>
            <a:xfrm>
              <a:off x="838080" y="3581280"/>
              <a:ext cx="68580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080" y="41911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35812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35812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541008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480060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8080" y="60199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ewrite the equation so y is a function of x. Then use the result to find y when x = -2, -1, 0, and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1676520"/>
          <a:ext cx="36417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36417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066680" y="3581280"/>
          <a:ext cx="5540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581280"/>
                    <a:ext cx="554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463920" y="2133720"/>
          <a:ext cx="1193760" cy="61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3920" y="2133720"/>
                    <a:ext cx="11937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743200" y="2971800"/>
          <a:ext cx="517680" cy="67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971800"/>
                    <a:ext cx="517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143000" y="2133720"/>
          <a:ext cx="11937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133720"/>
                    <a:ext cx="1193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143000" y="2819520"/>
            <a:ext cx="3733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124080" y="2895480"/>
          <a:ext cx="2168640" cy="62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2895480"/>
                    <a:ext cx="2168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895480" y="3581280"/>
          <a:ext cx="1773360" cy="65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3581280"/>
                    <a:ext cx="17733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629400" y="3505320"/>
          <a:ext cx="554040" cy="709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29400" y="3505320"/>
                    <a:ext cx="554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873000" y="4141800"/>
          <a:ext cx="943200" cy="654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73000" y="4141800"/>
                    <a:ext cx="9432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914400" y="4724280"/>
          <a:ext cx="831960" cy="654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4724280"/>
                    <a:ext cx="8319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143000" y="5334120"/>
          <a:ext cx="498600" cy="653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43000" y="5334120"/>
                    <a:ext cx="49860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219320" y="5943600"/>
          <a:ext cx="442800" cy="654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19320" y="5943600"/>
                    <a:ext cx="4428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05120" y="4191120"/>
                <a:ext cx="21016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7" name=""/>
          <p:cNvGraphicFramePr/>
          <p:nvPr/>
        </p:nvGraphicFramePr>
        <p:xfrm>
          <a:off x="3886200" y="4191120"/>
          <a:ext cx="2101680" cy="51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86200" y="4191120"/>
                    <a:ext cx="2101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400800" y="4191120"/>
          <a:ext cx="824040" cy="606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00800" y="4191120"/>
                    <a:ext cx="824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981080" y="4800600"/>
                <a:ext cx="20671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2" name=""/>
          <p:cNvGraphicFramePr/>
          <p:nvPr/>
        </p:nvGraphicFramePr>
        <p:xfrm>
          <a:off x="3962520" y="4800600"/>
          <a:ext cx="1947600" cy="546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962520" y="4800600"/>
                    <a:ext cx="19476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781680" y="4800600"/>
          <a:ext cx="414360" cy="609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781680" y="4800600"/>
                    <a:ext cx="414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33720" y="5410080"/>
                <a:ext cx="17222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3886200" y="5410080"/>
          <a:ext cx="1625760" cy="546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886200" y="5410080"/>
                    <a:ext cx="1625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05720" y="5410080"/>
          <a:ext cx="466560" cy="609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705720" y="5410080"/>
                    <a:ext cx="466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133720" y="6019920"/>
                <a:ext cx="18018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" name=""/>
          <p:cNvGraphicFramePr/>
          <p:nvPr/>
        </p:nvGraphicFramePr>
        <p:xfrm>
          <a:off x="4008600" y="5981760"/>
          <a:ext cx="1668240" cy="5713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008600" y="5981760"/>
                    <a:ext cx="1668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553080" y="5943600"/>
          <a:ext cx="685800" cy="6048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553080" y="5943600"/>
                    <a:ext cx="6858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ewrite the equation so y is a function of x. Then use the result to find y when x = -2, -1, 0, and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1676520"/>
          <a:ext cx="373680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37368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315200" y="2133720"/>
          <a:ext cx="4665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213372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156360" y="2133720"/>
          <a:ext cx="4665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213372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162920" y="2133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865840" y="2328840"/>
          <a:ext cx="2890800" cy="160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5840" y="2328840"/>
                    <a:ext cx="289080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943600" y="213372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171960" y="2209680"/>
          <a:ext cx="114120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71960" y="2209680"/>
                    <a:ext cx="11412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827360" y="2921040"/>
          <a:ext cx="826920" cy="77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7360" y="2921040"/>
                    <a:ext cx="826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419120" y="2209680"/>
          <a:ext cx="11415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19120" y="2209680"/>
                    <a:ext cx="1141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809640" y="2819520"/>
            <a:ext cx="3733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14600" y="2895480"/>
          <a:ext cx="2427120" cy="62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2895480"/>
                    <a:ext cx="24271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8458200" y="2133720"/>
          <a:ext cx="46656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458200" y="213372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05920" y="2133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91040" y="1523880"/>
          <a:ext cx="3252960" cy="776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91040" y="1523880"/>
                    <a:ext cx="325296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838080" y="3809880"/>
            <a:ext cx="6858000" cy="2971800"/>
            <a:chOff x="838080" y="3809880"/>
            <a:chExt cx="6858000" cy="2971800"/>
          </a:xfrm>
        </p:grpSpPr>
        <p:sp>
          <p:nvSpPr>
            <p:cNvPr id="183" name=""/>
            <p:cNvSpPr/>
            <p:nvPr/>
          </p:nvSpPr>
          <p:spPr>
            <a:xfrm>
              <a:off x="838080" y="3809880"/>
              <a:ext cx="68580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44197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05120" y="38098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38098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8080" y="563868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502920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62485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0" name=""/>
          <p:cNvGraphicFramePr/>
          <p:nvPr/>
        </p:nvGraphicFramePr>
        <p:xfrm>
          <a:off x="1066680" y="3809880"/>
          <a:ext cx="554040" cy="546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66680" y="3809880"/>
                    <a:ext cx="554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673360" y="3809880"/>
          <a:ext cx="2217600" cy="655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73360" y="3809880"/>
                    <a:ext cx="22176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629400" y="3733920"/>
          <a:ext cx="554040" cy="709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29400" y="3733920"/>
                    <a:ext cx="554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873000" y="4370400"/>
          <a:ext cx="943200" cy="654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73000" y="4370400"/>
                    <a:ext cx="9432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914400" y="4952880"/>
          <a:ext cx="831960" cy="654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14400" y="4952880"/>
                    <a:ext cx="8319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143000" y="5562720"/>
          <a:ext cx="498600" cy="653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143000" y="5562720"/>
                    <a:ext cx="49860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219320" y="6172200"/>
          <a:ext cx="442800" cy="654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219320" y="6172200"/>
                    <a:ext cx="4428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905120" y="4419720"/>
                <a:ext cx="2168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4016520" y="4419720"/>
          <a:ext cx="1839600" cy="515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016520" y="4419720"/>
                    <a:ext cx="18396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605640" y="4419720"/>
          <a:ext cx="412560" cy="6062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605640" y="4419720"/>
                    <a:ext cx="4125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05120" y="5029200"/>
                <a:ext cx="21384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0" name=""/>
          <p:cNvGraphicFramePr/>
          <p:nvPr/>
        </p:nvGraphicFramePr>
        <p:xfrm>
          <a:off x="3916440" y="5029200"/>
          <a:ext cx="2039760" cy="546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916440" y="5029200"/>
                    <a:ext cx="2039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6477120" y="5029200"/>
          <a:ext cx="776160" cy="609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77120" y="5029200"/>
                    <a:ext cx="776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57400" y="5638680"/>
                <a:ext cx="18702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5" name=""/>
          <p:cNvGraphicFramePr/>
          <p:nvPr/>
        </p:nvGraphicFramePr>
        <p:xfrm>
          <a:off x="3863880" y="5638680"/>
          <a:ext cx="1671840" cy="5461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863880" y="5638680"/>
                    <a:ext cx="1671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6680160" y="5638680"/>
          <a:ext cx="519120" cy="60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680160" y="5638680"/>
                    <a:ext cx="519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981080" y="6230880"/>
                <a:ext cx="1949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4030560" y="6210360"/>
          <a:ext cx="1622520" cy="5713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030560" y="6210360"/>
                    <a:ext cx="16225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480000" y="6172200"/>
          <a:ext cx="831960" cy="6048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6480000" y="6172200"/>
                    <a:ext cx="8319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ewrite the equation so y is a function of x. Then use the result to find y when x = -2, -1, 0, and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09600" y="1676520"/>
          <a:ext cx="378468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676520"/>
                    <a:ext cx="37846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7289640" y="2133720"/>
          <a:ext cx="5191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9640" y="213372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130800" y="2133720"/>
          <a:ext cx="51912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0800" y="213372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7162920" y="2133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095880" y="2819520"/>
          <a:ext cx="2530440" cy="77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819520"/>
                    <a:ext cx="25304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943600" y="213372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2133720"/>
          <a:ext cx="88272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133720"/>
                    <a:ext cx="8827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28600" y="2743200"/>
          <a:ext cx="2016000" cy="619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2743200"/>
                    <a:ext cx="2016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276720" y="2133720"/>
          <a:ext cx="8809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2133720"/>
                    <a:ext cx="880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838080" y="2743200"/>
            <a:ext cx="3733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057400" y="2743200"/>
          <a:ext cx="1343160" cy="77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7400" y="2743200"/>
                    <a:ext cx="13431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8624880" y="2133720"/>
          <a:ext cx="5191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624880" y="213372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305920" y="2133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840280" y="1523880"/>
          <a:ext cx="3303720" cy="776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40280" y="1523880"/>
                    <a:ext cx="330372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838080" y="3809880"/>
            <a:ext cx="6858000" cy="2971800"/>
            <a:chOff x="838080" y="3809880"/>
            <a:chExt cx="6858000" cy="2971800"/>
          </a:xfrm>
        </p:grpSpPr>
        <p:sp>
          <p:nvSpPr>
            <p:cNvPr id="251" name=""/>
            <p:cNvSpPr/>
            <p:nvPr/>
          </p:nvSpPr>
          <p:spPr>
            <a:xfrm>
              <a:off x="838080" y="3809880"/>
              <a:ext cx="6858000" cy="2971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44197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5120" y="38098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920" y="38098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563868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8080" y="502920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6248520"/>
              <a:ext cx="685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1066680" y="3809880"/>
          <a:ext cx="554040" cy="546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66680" y="3809880"/>
                    <a:ext cx="554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949480" y="3809880"/>
          <a:ext cx="1663920" cy="655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49480" y="3809880"/>
                    <a:ext cx="166392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629400" y="3733920"/>
          <a:ext cx="554040" cy="709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29400" y="3733920"/>
                    <a:ext cx="554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873000" y="4370400"/>
          <a:ext cx="943200" cy="654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73000" y="4370400"/>
                    <a:ext cx="9432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914400" y="4952880"/>
          <a:ext cx="831960" cy="654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14400" y="4952880"/>
                    <a:ext cx="8319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143000" y="5562720"/>
          <a:ext cx="498600" cy="653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143000" y="5562720"/>
                    <a:ext cx="49860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219320" y="6172200"/>
          <a:ext cx="442800" cy="654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219320" y="6172200"/>
                    <a:ext cx="4428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981080" y="4419720"/>
                <a:ext cx="1960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3" name=""/>
          <p:cNvGraphicFramePr/>
          <p:nvPr/>
        </p:nvGraphicFramePr>
        <p:xfrm>
          <a:off x="3906720" y="4419720"/>
          <a:ext cx="2059200" cy="515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906720" y="4419720"/>
                    <a:ext cx="20592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373800" y="4419720"/>
          <a:ext cx="878040" cy="6062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3800" y="4419720"/>
                    <a:ext cx="878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057400" y="5046840"/>
                <a:ext cx="1981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8" name=""/>
          <p:cNvGraphicFramePr/>
          <p:nvPr/>
        </p:nvGraphicFramePr>
        <p:xfrm>
          <a:off x="4008600" y="5029200"/>
          <a:ext cx="1854000" cy="546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008600" y="5029200"/>
                    <a:ext cx="1854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6426360" y="5029200"/>
          <a:ext cx="879480" cy="6094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26360" y="5029200"/>
                    <a:ext cx="87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133720" y="5638680"/>
                <a:ext cx="1676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3" name=""/>
          <p:cNvGraphicFramePr/>
          <p:nvPr/>
        </p:nvGraphicFramePr>
        <p:xfrm>
          <a:off x="3909960" y="5638680"/>
          <a:ext cx="1577880" cy="5461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909960" y="5638680"/>
                    <a:ext cx="15778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6730920" y="5638680"/>
          <a:ext cx="416160" cy="60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730920" y="5638680"/>
                    <a:ext cx="4161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209680" y="6245280"/>
                <a:ext cx="1657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8" name=""/>
          <p:cNvGraphicFramePr/>
          <p:nvPr/>
        </p:nvGraphicFramePr>
        <p:xfrm>
          <a:off x="4076640" y="6210360"/>
          <a:ext cx="1530360" cy="5713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076640" y="6210360"/>
                    <a:ext cx="1530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675480" y="6172200"/>
          <a:ext cx="439560" cy="6048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6675480" y="6172200"/>
                    <a:ext cx="4395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1:19:08Z</dcterms:modified>
  <cp:revision>203</cp:revision>
  <dc:subject/>
  <dc:title>No Slide Title</dc:title>
</cp:coreProperties>
</file>